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21423"/>
        <c:axId val="89165804"/>
      </c:barChart>
      <c:catAx>
        <c:axId val="78521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65804"/>
        <c:crosses val="autoZero"/>
        <c:auto val="1"/>
        <c:lblAlgn val="ctr"/>
        <c:lblOffset val="100"/>
        <c:noMultiLvlLbl val="0"/>
      </c:catAx>
      <c:valAx>
        <c:axId val="89165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21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1FD-3249-4F1C-AE96-7E13090C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6F6-0284-47A1-BB24-3C5A0B2C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E02-0542-47B8-8653-73C75F24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AD0-C6F4-4C83-B812-8F12A66E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984-BE7A-4B54-8666-15F7CCC7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F76-1CA8-404E-92A9-248B50FF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F3A-1CAA-40B0-9F04-6941B83E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A4F-4C57-4381-AA66-87A1C5E1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5C5-354E-4EE8-85E8-B707CB0E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973-B5BF-461D-A56C-5D412391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56F-15AA-4DFC-90C2-E5492C3F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020-26F1-498F-931C-A3DB2FB5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B1F63-24F4-46BA-BF76-455247198C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