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675018"/>
        <c:axId val="10368070"/>
      </c:barChart>
      <c:catAx>
        <c:axId val="386750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368070"/>
        <c:crosses val="autoZero"/>
        <c:auto val="1"/>
        <c:lblAlgn val="ctr"/>
        <c:lblOffset val="100"/>
        <c:noMultiLvlLbl val="0"/>
      </c:catAx>
      <c:valAx>
        <c:axId val="103680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6750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558C-3A87-43E9-81BD-EB7223DCE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E876-1D7D-46BF-AE98-EBFA77CD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1853-17FB-4F97-BA2E-B8B6811E2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E35A-5D9E-4BF8-8216-1CC31DF9C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9552-C2C5-46EB-9FD5-542EF917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CF5D-6AD8-44F5-8126-A25BB07D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02F0-A5AD-4742-8E48-57AB7E3C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4E8C-AA2B-4656-AEFE-D0769B83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91B2-341F-431E-BDF1-E076C870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0419-0E59-46A4-96A0-16C4C85F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55C6-6889-44B0-92B3-AE1FC154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BF82-BF48-419E-AF81-BF69AB1C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4CEB22-7AB5-4DFC-A5E2-DCA1D08667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