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77336"/>
        <c:axId val="14662950"/>
      </c:barChart>
      <c:catAx>
        <c:axId val="85277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62950"/>
        <c:crosses val="autoZero"/>
        <c:auto val="1"/>
        <c:lblAlgn val="ctr"/>
        <c:lblOffset val="100"/>
        <c:noMultiLvlLbl val="0"/>
      </c:catAx>
      <c:valAx>
        <c:axId val="14662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77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2A2-8D51-4789-BFDB-1DED4DD6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65C-93F5-446C-8630-6A43C5A3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683-C3BD-4EB8-B2FC-2EDED657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00F-DF6F-4C26-A971-2E4A0709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567-F954-4C6E-A3B5-8AECCDDB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BC39-92B0-41CB-B5C0-A1D965DB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39F-ED61-4AB6-A3F7-E2C2ACB8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E13-97D1-4596-84FD-D8335569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0C5-2894-4DFF-8631-26FEEDB1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60C-922B-49EF-9403-E1DB5FAC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0E38-7658-4051-BB98-CED5676F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38C-FE3D-4AA5-BFF0-5163688E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0900A-1C7B-4E3A-9457-D045A2D4C2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