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81742"/>
        <c:axId val="50536474"/>
      </c:barChart>
      <c:catAx>
        <c:axId val="87381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36474"/>
        <c:crosses val="autoZero"/>
        <c:auto val="1"/>
        <c:lblAlgn val="ctr"/>
        <c:lblOffset val="100"/>
        <c:noMultiLvlLbl val="0"/>
      </c:catAx>
      <c:valAx>
        <c:axId val="50536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81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B7DC-DA70-4083-8FC6-0F0FFD83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0A9-F1D1-41A7-A448-C166A527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5CE-62B4-47A9-949A-D650CE83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B28-74EF-445E-88EF-8945AFFB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333-F10E-4A61-A6EB-B913FF81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12B-8BA1-48C8-9FE3-FE881825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6176-9C68-476B-B2C9-39F9A066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4C0-6881-42E0-B998-91D6F995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808-362A-4E0D-8689-9BE36B95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C82-5885-4EBC-A3C6-0741260F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61A-A8A0-4CA3-957E-AB4861B5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E0B-82CE-4FE5-8254-205588B0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15407-1FF8-464E-9E6F-8321860FBB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