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49386"/>
        <c:axId val="67509878"/>
      </c:barChart>
      <c:catAx>
        <c:axId val="26349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09878"/>
        <c:crosses val="autoZero"/>
        <c:auto val="1"/>
        <c:lblAlgn val="ctr"/>
        <c:lblOffset val="100"/>
        <c:noMultiLvlLbl val="0"/>
      </c:catAx>
      <c:valAx>
        <c:axId val="67509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49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4CD-4096-4051-9D13-8DA44EEF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E7C-6B0F-47AD-828F-1EEF0613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2FE-0C2F-4621-B5E6-752E2041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C96-1EAE-4A81-84BB-AC3F98A1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200-B15D-40A1-824C-0A923005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2FC-1DBA-440F-B9D9-F97470A1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06F-5283-4204-B60F-8D495FE2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44B-1030-4834-A7BC-A6809B5F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5F4-2925-432C-91CB-D8F362AF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510-7D78-40E0-9A45-CA9DF9A9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E63-3464-4AAF-92E8-4052AE3A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E60-3D60-432C-B101-E06F6E2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2DF61-C7E1-4062-9E32-8F41C5315E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